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10F3-53FA-4FFB-BC50-671C52E004A6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436D-69EF-4401-B925-B59F4757D88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660F-E276-4B79-BEBA-0391F9BFA6E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2C05-35A7-4BAC-9563-5B6A324E2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231D-87C4-4B80-AA96-867D9353D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2228-C821-4F01-A18C-A9AEB17DB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537A-287E-430C-AD55-5D76D0AAF1B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F85E-5120-4914-BC71-4876CDA259C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5091-6BAD-4031-AF56-5A350872F4F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CDDC-F45A-4B20-8DC3-5F0D2FAE040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7EF4-BDA9-4EC9-877E-1B48ED1BA0E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1D45-04BD-4203-B6BB-2EA83979B89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B43F-7122-4B63-B1DB-6B1F2039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98A6-3CA0-4DBF-8B61-D3C4A6A3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064-9542-457F-9B6C-64EF93D7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247-9AA9-48D7-AF89-85977246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4551-A39C-453A-BCD4-22662DE0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939B-A1B5-4C17-92C1-2DB1EF53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203F-F823-4A12-B8BE-F9C6DA94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F20B-E611-4DAD-A3D1-821EC463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4731-2F90-4FD3-90F4-73F94213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8F11-FCD3-428F-AAE4-06272049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CD67-C925-402C-8415-B1D8CE1C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E4B5-CCCD-4E04-B7AE-F9565978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F8DF-9FA0-4A7A-B858-D096E702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3122-BC92-4EE6-A5C9-354D9A3E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0058-F3F8-494C-8195-70FC4B52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239C-60F1-45EE-A21C-203484D4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057F-1293-4F04-8A8E-10C9AC2B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48B-29BD-4F78-B79A-0AB494FA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757-E67D-4376-A509-80958513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110E-850E-469E-8136-0F6478C0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7EF8-4FBE-4744-A854-53BB4DB7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94C-2908-4489-9FD9-518E3A4A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6FD5-D891-4F67-A051-B449906F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0EC-55E6-4BA5-A852-8A18E2F9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460D-997D-4FFA-AF24-5AEAFD52B12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8D0E-52F7-4826-8683-60788F14EF3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8.-9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49:47Z</dcterms:modified>
  <cp:revision>343</cp:revision>
  <dc:subject/>
  <dc:title>Slide 1</dc:title>
</cp:coreProperties>
</file>